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81F-3402-49FE-9BC7-8C91F56A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FEE-1A6C-4876-ABCC-CDC9D8FB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B68-62AC-4A7C-ACA2-56CF4B1C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68D-0E91-49A5-A3E1-3DB7694E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9CE-7F0F-439A-AA05-EEB54C79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011-7B5F-4024-9B27-496B164E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114-BB06-4021-AB4A-5807A840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284-80A1-47B4-8C96-6CC760F7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C80-0008-44D6-8CF3-2DA6DBEA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D8C-2167-4FA4-8563-4F152DCF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2A5-CF6B-4145-AD2B-B39090D0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AC8-1DB7-434A-8184-4936FAB3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441F-6A19-436B-BDEC-96C2D6D56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ff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atergat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rough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arto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51055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in groups of 3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on Stage 3 in your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discuss Critical Thinking Question C and write down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int a different present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7343" t="5207" r="25003" b="3125"/>
          <a:stretch/>
        </p:blipFill>
        <p:spPr>
          <a:xfrm>
            <a:off x="2286000" y="0"/>
            <a:ext cx="46483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7343" t="5207" r="25003" b="3125"/>
          <a:stretch/>
        </p:blipFill>
        <p:spPr>
          <a:xfrm>
            <a:off x="0" y="0"/>
            <a:ext cx="4648320" cy="6705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071960" y="1752480"/>
            <a:ext cx="50720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on Stage 4 in your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discuss Critical Thinking Question D and write down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int a different present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6564" t="5207" r="23438" b="3125"/>
          <a:stretch/>
        </p:blipFill>
        <p:spPr>
          <a:xfrm>
            <a:off x="2286000" y="0"/>
            <a:ext cx="4876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26564" t="5207" r="23438" b="3125"/>
          <a:stretch/>
        </p:blipFill>
        <p:spPr>
          <a:xfrm>
            <a:off x="0" y="0"/>
            <a:ext cx="4876920" cy="6705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3683" b="0"/>
          <a:stretch/>
        </p:blipFill>
        <p:spPr>
          <a:xfrm>
            <a:off x="4038480" y="4079880"/>
            <a:ext cx="51055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on Stage 5 in your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discuss Critical Thinking Question E and write down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int a different present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6564" t="6251" r="23438" b="3125"/>
          <a:stretch/>
        </p:blipFill>
        <p:spPr>
          <a:xfrm>
            <a:off x="2286000" y="0"/>
            <a:ext cx="4876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26564" t="6251" r="23438" b="3125"/>
          <a:stretch/>
        </p:blipFill>
        <p:spPr>
          <a:xfrm>
            <a:off x="0" y="0"/>
            <a:ext cx="4876920" cy="6629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946240" y="0"/>
            <a:ext cx="61977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4688" t="5207" r="0" b="5207"/>
          <a:stretch/>
        </p:blipFill>
        <p:spPr>
          <a:xfrm>
            <a:off x="0" y="0"/>
            <a:ext cx="9296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127" t="9376" r="0" b="6251"/>
          <a:stretch/>
        </p:blipFill>
        <p:spPr>
          <a:xfrm>
            <a:off x="0" y="65556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4688" t="8431" r="0" b="20505"/>
          <a:stretch/>
        </p:blipFill>
        <p:spPr>
          <a:xfrm>
            <a:off x="0" y="1819440"/>
            <a:ext cx="8229600" cy="5038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333" t="0" r="0" b="0"/>
          <a:stretch/>
        </p:blipFill>
        <p:spPr>
          <a:xfrm>
            <a:off x="0" y="1523880"/>
            <a:ext cx="914400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X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 Ord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egally wiretapped left-wing individuals/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groups infiltrated (SDS, Black Panthers), spread conflict withi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A investigated dissidents (people opposed to government poli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IRS audit antiwar prot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an enemies list “anyone who opposes us, we’ll destro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tente (easing Cold War ten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ed China and Mosc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: Strategic Arms Limitation Tre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number of intercontinental ballistic missiles and submarine launched miss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terg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glary of DNC headqu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Presidency: thought he was supreme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ecutive privileg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can be used in matters of nation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P Spiro Agnew resigned, Nixon announced “I am not a croo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d edited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po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full tapes, went to the Supreme Co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xon resigned BEFORE full Ho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ea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lose faith in the presidency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nic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mistru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d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pardoned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Nix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6250" t="6251" r="0" b="625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on Stage 1 in your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discuss Critical Thinking Question A and write down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int a present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688" t="6251" r="0" b="5207"/>
          <a:stretch/>
        </p:blipFill>
        <p:spPr>
          <a:xfrm>
            <a:off x="0" y="0"/>
            <a:ext cx="9296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5003" t="6251" r="21876" b="5207"/>
          <a:stretch/>
        </p:blipFill>
        <p:spPr>
          <a:xfrm>
            <a:off x="0" y="0"/>
            <a:ext cx="4694400" cy="586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693800"/>
            <a:ext cx="44956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on Stage 2 in your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discuss Critical Thinking Question B and write down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int a different present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3438" t="6251" r="21093" b="3125"/>
          <a:stretch/>
        </p:blipFill>
        <p:spPr>
          <a:xfrm>
            <a:off x="1905120" y="0"/>
            <a:ext cx="5410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3438" t="6251" r="21093" b="3125"/>
          <a:stretch/>
        </p:blipFill>
        <p:spPr>
          <a:xfrm>
            <a:off x="0" y="0"/>
            <a:ext cx="4913280" cy="601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340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0:07:44Z</dcterms:created>
  <dc:creator>School District U46</dc:creator>
  <dc:description/>
  <dc:language>en-US</dc:language>
  <cp:lastModifiedBy> </cp:lastModifiedBy>
  <dcterms:modified xsi:type="dcterms:W3CDTF">2008-04-30T02:30:07Z</dcterms:modified>
  <cp:revision>7</cp:revision>
  <dc:subject/>
  <dc:title>Slide 1</dc:title>
</cp:coreProperties>
</file>